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0521-71AA-4018-BB23-C21CFD277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1169-F6A3-45AA-87BF-8ECE33BB60A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s have given school boards wide discretion in governing student conduct.</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ules are sufficiently definitive if </a:t>
            </a:r>
            <a:endParaRPr b="0" lang="en-US" sz="1200" spc="-1" strike="noStrike">
              <a:solidFill>
                <a:srgbClr val="000000"/>
              </a:solidFill>
              <a:latin typeface="Times New Roman"/>
            </a:endParaRPr>
          </a:p>
          <a:p>
            <a:pPr lvl="3" marL="1600200" indent="-228600">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ents given adequate information to know expectation</a:t>
            </a:r>
            <a:endParaRPr b="0" lang="en-US" sz="1200" spc="-1" strike="noStrike">
              <a:solidFill>
                <a:srgbClr val="000000"/>
              </a:solidFill>
              <a:latin typeface="Times New Roman"/>
            </a:endParaRPr>
          </a:p>
          <a:p>
            <a:pPr lvl="3" marL="1600200" indent="-228600">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not need to guess at the meaning</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blems occur when district interpretation of the rules may violate student due proces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D439-B372-41C5-899E-4205A11E8AE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performed an unauthorized solo at a concert were discipline which resulted in failing g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hool upheld –students knew it was wrong –a designed to preserve discipline in the classroom- legitimate interest on the part of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tiff alleged: Discipline unrelated to academic conduct – court said it was, but didn’t necessarily agree with the wisdom of th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nn v Fairfield  giving students and f for violating school rules does not violate substantive due process where action does not shock the con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0792-9672-4887-9ADC-1C96C2B339C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mendment – protection from cruel and unusual punis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rporal punishment be so severe as to deny a student’s liberty interest? Probably not under the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mendment, but under the 14</a:t>
            </a:r>
            <a:r>
              <a:rPr b="0" lang="en-US" sz="1200" spc="-1" strike="noStrike" baseline="30000">
                <a:solidFill>
                  <a:srgbClr val="000000"/>
                </a:solidFill>
                <a:latin typeface="Times New Roman"/>
              </a:rPr>
              <a:t>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graham – principal and assistant principal severely paddled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can impose reasonable, but not excessive force to control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w did the court address the plaintiff’s arguments that prisoners could not be whipped, but children c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mendment is not applicable to corporal punishment at schools     - is that regardless of seve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mendments liberty interests are implicated – does procedural due process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shock the conscience -  Hall standardjunior high stuent used inapporpriat language and the teacher put a chokehold on the students who suffered unconsciousness, fell to the ground, broken nose and cut lip,a nd was hospitalized  -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circuit – shock the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arcia v Miera (1987 a principal held a 9 year old upside down by the ankles, slapped her across the front of her legs with a wooden split paddle until she bled – this fell into the shocking the s=conscience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F9D9-BA19-4D5F-B696-8898A03ED7F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xon – 1961 – black students at state college expelled for out of school activity – no du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ss v Lopez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lain v Layfayette – student was given opportunity to present his side of the story, no question of guilt, nothing unfair – held for the distri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1553-7447-4979-9F8C-5263E44679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Supreme court of Indiana agreed with definition of school year; did not agree that decision was arbitrary and capri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d state statute or school year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taken was consistent with previous action – 20 year history – if student removed before end of semester not credit for that semester was gr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 is an administrative body, making any judicial review narrow. An agency decision will not be over tuned unless it is purely arbitrary or an error of law is made burden of proof is on the plaintiff to prove it is arbitrary and capricious – c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though we do not agree with the view that the statute mandates a loss of credit upon expulsion, we do acknowledge that the SB has the discretion to impose such a sanc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0C81-28A9-4C8D-88A0-1E21AB08EF4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X prohibits unwelcome sexual behavior by any party who is in an inherently unequ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ct is obligated to take reasonable steps tp prevent sexual harassment by school employ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employee to employ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employee to student,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student to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ederal funds received by district, entire system must be in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ranklin: </a:t>
            </a:r>
            <a:r>
              <a:rPr b="0" lang="en-US" sz="1200" spc="-1" strike="noStrike">
                <a:solidFill>
                  <a:srgbClr val="000000"/>
                </a:solidFill>
                <a:latin typeface="Times New Roman"/>
              </a:rPr>
              <a:t>teacher sexually harassed student, engaged in sex, took out of other teacher’s classes. Student sued under Title IX requested damages. Lower court said no – SC – Damages are avail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Gebster: </a:t>
            </a:r>
            <a:r>
              <a:rPr b="0" lang="en-US" sz="1200" spc="-1" strike="noStrike">
                <a:solidFill>
                  <a:srgbClr val="000000"/>
                </a:solidFill>
                <a:latin typeface="Times New Roman"/>
              </a:rPr>
              <a:t>Teacher sexually harassed student,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1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exual relationship; other parents complained about his comments, district disciplined; then found by police having sex with the student.  District terminated.  District did not have policy or procedure for reporting sexual harassment.  Student sued Court said the district official needed to have notice of the harass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avis:</a:t>
            </a:r>
            <a:r>
              <a:rPr b="0" lang="en-US" sz="1200" spc="-1" strike="noStrike">
                <a:solidFill>
                  <a:srgbClr val="000000"/>
                </a:solidFill>
                <a:latin typeface="Times New Roman"/>
              </a:rPr>
              <a:t> 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r harassed by classmate – parents repeatedly complained – no evidence of disciplinary action.  Student finally charged with sexual battery.  Never even separated the two – parents brought sui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court dismissed. SC to decide districts failure to respond to student-to-student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y) harassment can support a private suit? YES – based on deliberate indiffere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ynard:  student reported to principal that he had been sexually molested by his 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teacher, parent confirmed the story; others gave similar account.  Principal did nothing.  Another teacher observed questionable behavior with Baynard reported it, principal talked with him, nothing further.  Another report – principal finally reported to HR director, who initiated an investigation.  Police became involved. Teacher resigned – continued the relationship with the Baynard for 3-4 years. Maynard filed suit.  Lower court said not liable. Findings: evidence supported principal had knowledge of risk of molestation and acted with deliberate indifference that would allow for damages; Supt and HR director did not have knowledge; principal did not have knowledge of molestation, nor the power to take remedial action – Lower court decisions upheld.</a:t>
            </a:r>
            <a:endParaRPr b="0" lang="en-US" sz="1200" spc="-1" strike="noStrike">
              <a:solidFill>
                <a:srgbClr val="000000"/>
              </a:solidFill>
              <a:latin typeface="Times New Roman"/>
            </a:endParaRPr>
          </a:p>
        </p:txBody>
      </p:sp>
      <p:sp>
        <p:nvSpPr>
          <p:cNvPr id="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0C39-F56F-477A-9007-8E0776D0421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assment must be so severe, pervasive and objectively offensive that it discriminates against the victim and effectively deprives him or her of access to ed opportunities provided by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A0B3-C112-43B8-9C12-D7C8424DAEA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809F-896A-4302-8EF6-F809915B3FF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was paddled at school in front of another teacher (witness) parent filed child abuse charge – court found that reasonable force in paddling a student did not constitute child abuse.  (This type of action in WA is prohibi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0A71-6265-4962-9C98-2707CF53090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FD3F-C791-4F22-BB06-ABDC4952106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has obligation to the student to maintain discipline and protect their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has an obligation to behave appropr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duction in personal freedom to live in  socie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EB26-8E29-4829-958E-163971E58F2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B0C5-96EC-4509-A56C-AC0CE78D3C0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concept  - but not co-extensive with the rights of the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ly and well-behaved students are important in maintaining a learning environ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ACEA-90EC-4F25-8839-2C68053494F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district policy on loitering not unconstitutionally vague not violation of 1st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student given a 3 day suspension for violating anti-loitering r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loitering rule on adjacent property because of neighbor concerns – safety/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gueness challenge: Parents requested a hearing, contested on the basis that: loitering is v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court dismissed on the basis that there was no cl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appe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is is a violation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mendme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Upheld the lower court decision – not a violation of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mendme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nale:  rules based in safety and property damage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as appropriate in scope, students knew the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14D8-2F8A-483B-846D-742622FE17F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erson’s rights are abridged – deprived of life, liberty or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terpretations were only based on procedure, not reasonableness of the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yer case (no foreign language under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 expanded interpretation of liberty –prior to that only looked at procedural du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 is a property interest – children have a right to be educated – cannot selectively deny without du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looked at liberty interests in reputation and damage to them done by information in their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l due process is as old as the 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lemental standards – rule against bias (no person a judge in own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ight to a hearing (no person can be condemned unhe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F8330-7068-4519-9125-1E0761C95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E06BA-CAE3-4419-81F9-035DCE5E2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C32F5-95D0-459E-A813-C99082849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5B4BA-F7C6-4F07-BF53-B9076BB3C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E09C7-B6FB-42E8-AC87-456A8D860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2A945-1050-42D4-ABF0-6644763D0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8D771-8511-4CD5-A4C1-E4C619FF8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97ABD-68C0-4F70-9E63-FE536AEEA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3B045-02C5-47D7-BD8F-2FD53245A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A66B8-EB9C-41DC-B470-A757513F0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F1E64-35EC-4FEE-83CC-23F37032B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498FB-C8E0-4E7E-BEA6-1C0CF8FA9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AF455-3841-4495-BC67-D264AC894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13111-8708-4327-AC29-6CEC575AC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8F34F-B453-4FA9-BE32-72D341226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99EE4-2EAD-4CED-AB08-3564FFD4D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83353-008E-4F93-9065-A9B6158A2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29A45-5DC6-41A8-BF94-CB9B0B916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E55A9-7E64-4FF6-ACAF-33043BF8F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54312-2925-4BD7-B1A0-E68278F9F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ECCB7-1F95-4FF1-85A9-6A39597B9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C99AA-C814-4192-86E2-915A2D28B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D0735-1CA8-4600-97B1-A7FD6F459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2285E-415E-4303-B9A8-64C470852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2BFB-2388-4A70-94BC-0F5C04835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4D6F-FDF2-409A-A4EE-D00DA20F7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3472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udent Rights</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Law, Due Process, and Statutory Protec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ubstantive Due Process</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has no power to deprive a person of life, liberty, or property by an action that has no reasonable relationship to any proper governmental purpose</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must have a valid objective and the means used must be reasonably calculated to meet the objective</a:t>
            </a:r>
            <a:endParaRPr b="0" lang="en-US" sz="24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eyer v Nebraska 1923 </a:t>
            </a:r>
            <a:r>
              <a:rPr b="0" i="1" lang="en-US" sz="2100" spc="-1" strike="noStrike">
                <a:solidFill>
                  <a:srgbClr val="000000"/>
                </a:solidFill>
                <a:latin typeface="Verdana"/>
              </a:rPr>
              <a:t>	</a:t>
            </a:r>
            <a:r>
              <a:rPr b="0" i="1" lang="en-US" sz="2100" spc="-1" strike="noStrike">
                <a:solidFill>
                  <a:srgbClr val="000000"/>
                </a:solidFill>
                <a:latin typeface="Verdana"/>
              </a:rPr>
              <a:t>liberty interes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Dixon v Alabama 1961 </a:t>
            </a:r>
            <a:r>
              <a:rPr b="0" i="1" lang="en-US" sz="2100" spc="-1" strike="noStrike">
                <a:solidFill>
                  <a:srgbClr val="000000"/>
                </a:solidFill>
                <a:latin typeface="Verdana"/>
              </a:rPr>
              <a:t>	</a:t>
            </a:r>
            <a:r>
              <a:rPr b="0" i="1" lang="en-US" sz="2100" spc="-1" strike="noStrike">
                <a:solidFill>
                  <a:srgbClr val="000000"/>
                </a:solidFill>
                <a:latin typeface="Verdana"/>
              </a:rPr>
              <a:t>	</a:t>
            </a:r>
            <a:r>
              <a:rPr b="0" i="1" lang="en-US" sz="2100" spc="-1" strike="noStrike">
                <a:solidFill>
                  <a:srgbClr val="000000"/>
                </a:solidFill>
                <a:latin typeface="Verdana"/>
              </a:rPr>
              <a:t>property interes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Tinker v Des Moines 1969</a:t>
            </a:r>
            <a:r>
              <a:rPr b="0" i="1" lang="en-US" sz="2100" spc="-1" strike="noStrike">
                <a:solidFill>
                  <a:srgbClr val="000000"/>
                </a:solidFill>
                <a:latin typeface="Verdana"/>
              </a:rPr>
              <a:t>	</a:t>
            </a:r>
            <a:r>
              <a:rPr b="0" i="1" lang="en-US" sz="2100" spc="-1" strike="noStrike">
                <a:solidFill>
                  <a:srgbClr val="000000"/>
                </a:solidFill>
                <a:latin typeface="Verdana"/>
              </a:rPr>
              <a:t>property interes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Goss v Lopez  1975</a:t>
            </a:r>
            <a:r>
              <a:rPr b="0" i="1" lang="en-US" sz="2100" spc="-1" strike="noStrike">
                <a:solidFill>
                  <a:srgbClr val="000000"/>
                </a:solidFill>
                <a:latin typeface="Verdana"/>
              </a:rPr>
              <a:t>	</a:t>
            </a:r>
            <a:r>
              <a:rPr b="0" i="1" lang="en-US" sz="2100" spc="-1" strike="noStrike">
                <a:solidFill>
                  <a:srgbClr val="000000"/>
                </a:solidFill>
                <a:latin typeface="Verdana"/>
              </a:rPr>
              <a:t>property and liberty interes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stitutional Due Process</a:t>
            </a:r>
            <a:endParaRPr b="0" lang="en-US" sz="3800" spc="-1" strike="noStrike">
              <a:solidFill>
                <a:srgbClr val="000000"/>
              </a:solidFill>
              <a:latin typeface="Verdana"/>
            </a:endParaRPr>
          </a:p>
        </p:txBody>
      </p:sp>
      <p:sp>
        <p:nvSpPr>
          <p:cNvPr id="113" name=""/>
          <p:cNvSpPr txBox="1"/>
          <p:nvPr/>
        </p:nvSpPr>
        <p:spPr>
          <a:xfrm>
            <a:off x="566280" y="1752480"/>
            <a:ext cx="392436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nn v Fairfield 7</a:t>
            </a:r>
            <a:r>
              <a:rPr b="0" lang="en-US" sz="2800" spc="-1" strike="noStrike" baseline="30000">
                <a:solidFill>
                  <a:srgbClr val="000000"/>
                </a:solidFill>
                <a:latin typeface="Verdana"/>
              </a:rPr>
              <a:t>th</a:t>
            </a:r>
            <a:r>
              <a:rPr b="0" lang="en-US" sz="2800" spc="-1" strike="noStrike">
                <a:solidFill>
                  <a:srgbClr val="000000"/>
                </a:solidFill>
                <a:latin typeface="Verdana"/>
              </a:rPr>
              <a:t> Circuit  - 1998</a:t>
            </a:r>
            <a:endParaRPr b="0" lang="en-US" sz="2800" spc="-1" strike="noStrike">
              <a:solidFill>
                <a:srgbClr val="000000"/>
              </a:solidFill>
              <a:latin typeface="Verdana"/>
            </a:endParaRPr>
          </a:p>
        </p:txBody>
      </p:sp>
      <p:sp>
        <p:nvSpPr>
          <p:cNvPr id="114" name=""/>
          <p:cNvSpPr txBox="1"/>
          <p:nvPr/>
        </p:nvSpPr>
        <p:spPr>
          <a:xfrm>
            <a:off x="4642920" y="1752480"/>
            <a:ext cx="392436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5" name="Picture 11" descr="C:\Documents and Settings\Jim\Local Settings\Temporary Internet Files\Content.IE5\UYH0VT9A\MPj04227360000[1].jpg"/>
          <p:cNvPicPr/>
          <p:nvPr/>
        </p:nvPicPr>
        <p:blipFill>
          <a:blip r:embed="rId1"/>
          <a:stretch/>
        </p:blipFill>
        <p:spPr>
          <a:xfrm>
            <a:off x="4648320" y="1752480"/>
            <a:ext cx="38862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poral Punishment</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8</a:t>
            </a:r>
            <a:r>
              <a:rPr b="0" lang="en-US" sz="3000" spc="-1" strike="noStrike" baseline="30000">
                <a:solidFill>
                  <a:srgbClr val="000000"/>
                </a:solidFill>
                <a:latin typeface="Verdana"/>
              </a:rPr>
              <a:t>th</a:t>
            </a:r>
            <a:r>
              <a:rPr b="0" lang="en-US" sz="3000" spc="-1" strike="noStrike">
                <a:solidFill>
                  <a:srgbClr val="000000"/>
                </a:solidFill>
                <a:latin typeface="Verdana"/>
              </a:rPr>
              <a:t> Amendment issue –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berty interes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Ingraham v Wright SC 1977</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cedural Due Process</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xon v. Alabama 5</a:t>
            </a:r>
            <a:r>
              <a:rPr b="0" lang="en-US" sz="3000" spc="-1" strike="noStrike" baseline="30000">
                <a:solidFill>
                  <a:srgbClr val="000000"/>
                </a:solidFill>
                <a:latin typeface="Verdana"/>
              </a:rPr>
              <a:t>th</a:t>
            </a:r>
            <a:r>
              <a:rPr b="0" lang="en-US" sz="3000" spc="-1" strike="noStrike">
                <a:solidFill>
                  <a:srgbClr val="000000"/>
                </a:solidFill>
                <a:latin typeface="Verdana"/>
              </a:rPr>
              <a:t> Circuit 1961</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ss v Lopez SC 1975</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cClain v Lafayette 5</a:t>
            </a:r>
            <a:r>
              <a:rPr b="0" lang="en-US" sz="3000" spc="-1" strike="noStrike" baseline="30000">
                <a:solidFill>
                  <a:srgbClr val="000000"/>
                </a:solidFill>
                <a:latin typeface="Verdana"/>
              </a:rPr>
              <a:t>th</a:t>
            </a:r>
            <a:r>
              <a:rPr b="0" lang="en-US" sz="3000" spc="-1" strike="noStrike">
                <a:solidFill>
                  <a:srgbClr val="000000"/>
                </a:solidFill>
                <a:latin typeface="Verdana"/>
              </a:rPr>
              <a:t> Circuit 1982</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You be the Judge</a:t>
            </a:r>
            <a:endParaRPr b="0" lang="en-US" sz="3800" spc="-1" strike="noStrike">
              <a:solidFill>
                <a:srgbClr val="000000"/>
              </a:solidFill>
              <a:latin typeface="Verdana"/>
            </a:endParaRPr>
          </a:p>
        </p:txBody>
      </p:sp>
      <p:sp>
        <p:nvSpPr>
          <p:cNvPr id="121" name=""/>
          <p:cNvSpPr txBox="1"/>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11 year old 6</a:t>
            </a:r>
            <a:r>
              <a:rPr b="0" lang="en-US" sz="2100" spc="-1" strike="noStrike" baseline="30000">
                <a:solidFill>
                  <a:srgbClr val="000000"/>
                </a:solidFill>
                <a:latin typeface="Verdana"/>
              </a:rPr>
              <a:t>th</a:t>
            </a:r>
            <a:r>
              <a:rPr b="0" lang="en-US" sz="2100" spc="-1" strike="noStrike">
                <a:solidFill>
                  <a:srgbClr val="000000"/>
                </a:solidFill>
                <a:latin typeface="Verdana"/>
              </a:rPr>
              <a:t> grader brought a 2 CD’s to school with a song created and performed by the student and a friend.  The song was titled “Gonna kill Mrs. Cox’s baby”  Mrs. Cox was the student’s science teacher and was pregnant at the time. On the disc the lyrics were unintelligible, he was asked to write them down.  He admitted he wrote them, and burned the songs onto the CDs. He was suspended for 2 weeks and at hearing was expelled for the remainder of the year.  The parents argued that the evidence was arbitrary and capricious, and unreasonable and that the discipline was too severe.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 it too severe? Was the behavior egregious enough?  Were his rights violat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You be the Judge!</a:t>
            </a:r>
            <a:endParaRPr b="0" lang="en-US" sz="3800" spc="-1" strike="noStrike">
              <a:solidFill>
                <a:srgbClr val="000000"/>
              </a:solidFill>
              <a:latin typeface="Verdana"/>
            </a:endParaRPr>
          </a:p>
        </p:txBody>
      </p:sp>
      <p:sp>
        <p:nvSpPr>
          <p:cNvPr id="123" name="PlaceHolder 2"/>
          <p:cNvSpPr>
            <a:spLocks noGrp="1"/>
          </p:cNvSpPr>
          <p:nvPr>
            <p:ph/>
          </p:nvPr>
        </p:nvSpPr>
        <p:spPr>
          <a:xfrm>
            <a:off x="566280" y="1905120"/>
            <a:ext cx="8001000" cy="411480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high school has a zero tolerance drug policy.  A small amount of marijuana was found in a student’s car on campus.  Student was expelled 3 days from  the end of fall semester for the remainder of the year, including summer school. He received no credit for fall or spring classes. The longstanding (20 years) district practice was to expel the student caught with drugs. The school board upheld the discipline.  The student filed for a judicial review.  The trial court found that the expulsion must end on the last day of school and not include summer school; and that school board’s action was arbitrary and capricious. The School Board appealed and the Appeal Court agreed that the last day of school did not extend to summer school and that the district’s actions were arbitrary and capriciou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xual Harassment</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itle IX of Educational Amendments, 1982</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id pro quo</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stile environmen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liberate indifference stand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xual Harassment Cases</a:t>
            </a:r>
            <a:endParaRPr b="0" lang="en-US" sz="3800" spc="-1" strike="noStrike">
              <a:solidFill>
                <a:srgbClr val="000000"/>
              </a:solidFill>
              <a:latin typeface="Verdana"/>
            </a:endParaRPr>
          </a:p>
        </p:txBody>
      </p:sp>
      <p:sp>
        <p:nvSpPr>
          <p:cNvPr id="12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er to Student</a:t>
            </a:r>
            <a:endParaRPr b="0" lang="en-US" sz="2400" spc="-1" strike="noStrike">
              <a:solidFill>
                <a:srgbClr val="000000"/>
              </a:solidFill>
              <a:latin typeface="Verdana"/>
            </a:endParaRPr>
          </a:p>
        </p:txBody>
      </p:sp>
      <p:sp>
        <p:nvSpPr>
          <p:cNvPr id="128" name=""/>
          <p:cNvSpPr txBox="1"/>
          <p:nvPr/>
        </p:nvSpPr>
        <p:spPr>
          <a:xfrm>
            <a:off x="456840" y="2174760"/>
            <a:ext cx="4040280" cy="395136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nklin v. Gwinett</a:t>
            </a:r>
            <a:endParaRPr b="0" lang="en-US" sz="24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 1992</a:t>
            </a:r>
            <a:endParaRPr b="0" lang="en-US" sz="20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bster v Lago Vista</a:t>
            </a:r>
            <a:endParaRPr b="0" lang="en-US" sz="24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 1998</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udent to Student</a:t>
            </a:r>
            <a:endParaRPr b="0" lang="en-US" sz="2400" spc="-1" strike="noStrike">
              <a:solidFill>
                <a:srgbClr val="000000"/>
              </a:solidFill>
              <a:latin typeface="Verdana"/>
            </a:endParaRPr>
          </a:p>
        </p:txBody>
      </p:sp>
      <p:sp>
        <p:nvSpPr>
          <p:cNvPr id="130" name=""/>
          <p:cNvSpPr txBox="1"/>
          <p:nvPr/>
        </p:nvSpPr>
        <p:spPr>
          <a:xfrm>
            <a:off x="4644720" y="2174760"/>
            <a:ext cx="4041720" cy="395136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s v. Monroe  </a:t>
            </a:r>
            <a:endParaRPr b="0" lang="en-US" sz="24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 1999</a:t>
            </a:r>
            <a:endParaRPr b="0" lang="en-US" sz="20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ynard v Malone </a:t>
            </a:r>
            <a:endParaRPr b="0" lang="en-US" sz="24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r>
              <a:rPr b="0" lang="en-US" sz="2000" spc="-1" strike="noStrike" baseline="30000">
                <a:solidFill>
                  <a:srgbClr val="000000"/>
                </a:solidFill>
                <a:latin typeface="Verdana"/>
              </a:rPr>
              <a:t>th</a:t>
            </a:r>
            <a:r>
              <a:rPr b="0" lang="en-US" sz="2000" spc="-1" strike="noStrike">
                <a:solidFill>
                  <a:srgbClr val="000000"/>
                </a:solidFill>
                <a:latin typeface="Verdana"/>
              </a:rPr>
              <a:t> Circuit 2001</a:t>
            </a:r>
            <a:endParaRPr b="0" lang="en-US" sz="20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ortant Concepts</a:t>
            </a:r>
            <a:endParaRPr b="0" lang="en-US" sz="3800" spc="-1" strike="noStrike">
              <a:solidFill>
                <a:srgbClr val="000000"/>
              </a:solidFill>
              <a:latin typeface="Verdana"/>
            </a:endParaRPr>
          </a:p>
        </p:txBody>
      </p:sp>
      <p:sp>
        <p:nvSpPr>
          <p:cNvPr id="132" name=""/>
          <p:cNvSpPr txBox="1"/>
          <p:nvPr/>
        </p:nvSpPr>
        <p:spPr>
          <a:xfrm>
            <a:off x="566280" y="1752480"/>
            <a:ext cx="8001000" cy="4267440"/>
          </a:xfrm>
          <a:prstGeom prst="rect">
            <a:avLst/>
          </a:prstGeom>
          <a:noFill/>
          <a:ln w="0">
            <a:noFill/>
          </a:ln>
        </p:spPr>
        <p:txBody>
          <a:bodyPr anchor="t">
            <a:normAutofit fontScale="94000"/>
          </a:bodyPr>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mages are available under Title IX</a:t>
            </a:r>
            <a:endParaRPr b="0" lang="en-US" sz="3000" spc="-1" strike="noStrike">
              <a:solidFill>
                <a:srgbClr val="000000"/>
              </a:solidFill>
              <a:latin typeface="Verdana"/>
            </a:endParaRPr>
          </a:p>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hool official must have actual notice of circumstances and acted with deliberate indifference</a:t>
            </a:r>
            <a:endParaRPr b="0" lang="en-US" sz="3000" spc="-1" strike="noStrike">
              <a:solidFill>
                <a:srgbClr val="000000"/>
              </a:solidFill>
              <a:latin typeface="Verdana"/>
            </a:endParaRPr>
          </a:p>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ability is limited to situations in which school has substantial control over the harasser and the context</a:t>
            </a:r>
            <a:endParaRPr b="0" lang="en-US" sz="3000" spc="-1" strike="noStrike">
              <a:solidFill>
                <a:srgbClr val="000000"/>
              </a:solidFill>
              <a:latin typeface="Verdana"/>
            </a:endParaRPr>
          </a:p>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rassment must be so severe, pervasive and objectively offensive</a:t>
            </a:r>
            <a:endParaRPr b="0" lang="en-US" sz="3000" spc="-1" strike="noStrike">
              <a:solidFill>
                <a:srgbClr val="000000"/>
              </a:solidFill>
              <a:latin typeface="Verdana"/>
            </a:endParaRPr>
          </a:p>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hild Abuse</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porting of suspected abuse is mandatory</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se: </a:t>
            </a:r>
            <a:r>
              <a:rPr b="0" lang="en-US" sz="3000" spc="-1" strike="noStrike" u="sng">
                <a:solidFill>
                  <a:srgbClr val="000000"/>
                </a:solidFill>
                <a:uFillTx/>
                <a:latin typeface="Verdana"/>
              </a:rPr>
              <a:t>Arkansas v. Caldwell 1992</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udent Rights v State Rights</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ducation is not a fundamental righ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s do have 1</a:t>
            </a:r>
            <a:r>
              <a:rPr b="0" lang="en-US" sz="3000" spc="-1" strike="noStrike" baseline="30000">
                <a:solidFill>
                  <a:srgbClr val="000000"/>
                </a:solidFill>
                <a:latin typeface="Verdana"/>
              </a:rPr>
              <a:t>st</a:t>
            </a:r>
            <a:r>
              <a:rPr b="0" lang="en-US" sz="3000" spc="-1" strike="noStrike">
                <a:solidFill>
                  <a:srgbClr val="000000"/>
                </a:solidFill>
                <a:latin typeface="Verdana"/>
              </a:rPr>
              <a:t> and 14</a:t>
            </a:r>
            <a:r>
              <a:rPr b="0" lang="en-US" sz="3000" spc="-1" strike="noStrike" baseline="30000">
                <a:solidFill>
                  <a:srgbClr val="000000"/>
                </a:solidFill>
                <a:latin typeface="Verdana"/>
              </a:rPr>
              <a:t>th</a:t>
            </a:r>
            <a:r>
              <a:rPr b="0" lang="en-US" sz="3000" spc="-1" strike="noStrike">
                <a:solidFill>
                  <a:srgbClr val="000000"/>
                </a:solidFill>
                <a:latin typeface="Verdana"/>
              </a:rPr>
              <a:t> Amendment righ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lancing responsibility</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blic schools respect the rights of the studen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respect their obligations to the sta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mon Law</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duction in some personal freedom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bligations on the part of both the teacher and the studen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asonableness is the common law watch word of the teacher-student relationshi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asonableness</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aspects : the reach of the school’s authority, and the nature and degree of the disciplin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duct that is: Proper, rational and fair</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conduct that is immoderate, excessive, and unsuitable to the condi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 loco parentis</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place of the paren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T school official’s rights are not co-extensive with those of the par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iemerslage v. Maine</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stitutional Due process</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te can deprive an individual of a life, liberty, or property so long as the individual is given due proces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14th Amendment – </a:t>
            </a:r>
            <a:r>
              <a:rPr b="1" lang="en-US" sz="3000" spc="-1" strike="noStrike">
                <a:solidFill>
                  <a:srgbClr val="000000"/>
                </a:solidFill>
                <a:latin typeface="Verdana"/>
              </a:rPr>
              <a:t>	</a:t>
            </a:r>
            <a:r>
              <a:rPr b="0" lang="en-US" sz="3000" spc="-1" strike="noStrike">
                <a:solidFill>
                  <a:srgbClr val="000000"/>
                </a:solidFill>
                <a:latin typeface="Verdana"/>
              </a:rPr>
              <a:t>no state … shall deprive any person of life, liberty, or property w/out due process of law.</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hat Process is Due?</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ends on the circumstanc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touchstones are:</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tice </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aring </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s and findings open to inspec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ue Process</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22920" cy="426744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SUBSTANTIVE</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id objective of the state</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ans must be reasonable</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oes the state have a valid objective to take away someone’s right to life, liberty or property?</a:t>
            </a:r>
            <a:endParaRPr b="0" lang="en-US" sz="2000" spc="-1" strike="noStrike">
              <a:solidFill>
                <a:srgbClr val="000000"/>
              </a:solidFill>
              <a:latin typeface="Verdana"/>
            </a:endParaRPr>
          </a:p>
        </p:txBody>
      </p:sp>
      <p:sp>
        <p:nvSpPr>
          <p:cNvPr id="109" name="PlaceHolder 3"/>
          <p:cNvSpPr>
            <a:spLocks noGrp="1"/>
          </p:cNvSpPr>
          <p:nvPr>
            <p:ph/>
          </p:nvPr>
        </p:nvSpPr>
        <p:spPr>
          <a:xfrm>
            <a:off x="4645080" y="1752480"/>
            <a:ext cx="3922560" cy="4267440"/>
          </a:xfrm>
          <a:prstGeom prst="rect">
            <a:avLst/>
          </a:prstGeom>
          <a:noFill/>
          <a:ln w="0">
            <a:noFill/>
          </a:ln>
        </p:spPr>
        <p:txBody>
          <a:bodyPr anchor="t">
            <a:normAutofit fontScale="98000"/>
          </a:bodyPr>
          <a:p>
            <a:pPr marL="460080" indent="-460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PROCEDURAL</a:t>
            </a:r>
            <a:endParaRPr b="0" lang="en-US" sz="2000" spc="-1" strike="noStrike">
              <a:solidFill>
                <a:srgbClr val="000000"/>
              </a:solidFill>
              <a:latin typeface="Verdana"/>
            </a:endParaRPr>
          </a:p>
          <a:p>
            <a:pPr marL="460080" indent="-460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 notice</a:t>
            </a:r>
            <a:endParaRPr b="0" lang="en-US" sz="2000" spc="-1" strike="noStrike">
              <a:solidFill>
                <a:srgbClr val="000000"/>
              </a:solidFill>
              <a:latin typeface="Verdana"/>
            </a:endParaRPr>
          </a:p>
          <a:p>
            <a:pPr marL="460080" indent="-460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rtunity to be heard</a:t>
            </a:r>
            <a:endParaRPr b="0" lang="en-US" sz="2000" spc="-1" strike="noStrike">
              <a:solidFill>
                <a:srgbClr val="000000"/>
              </a:solidFill>
              <a:latin typeface="Verdana"/>
            </a:endParaRPr>
          </a:p>
          <a:p>
            <a:pPr marL="460080" indent="-460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ir hearing</a:t>
            </a:r>
            <a:endParaRPr b="0" lang="en-US" sz="2000" spc="-1" strike="noStrike">
              <a:solidFill>
                <a:srgbClr val="000000"/>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id the state provide proper notice of the deprivation of life, liberty or property and did the person have an opportunity to be heard, and was the hearing conducted fair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6T17:45:58Z</dcterms:created>
  <dc:creator>Preferred User</dc:creator>
  <dc:description/>
  <dc:language>en-US</dc:language>
  <cp:lastModifiedBy> </cp:lastModifiedBy>
  <dcterms:modified xsi:type="dcterms:W3CDTF">2010-03-05T05:32:35Z</dcterms:modified>
  <cp:revision>11</cp:revision>
  <dc:subject/>
  <dc:title>Student Rights</dc:title>
</cp:coreProperties>
</file>